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A0B5-86B4-4E10-88D6-7525092B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352E-C21E-475C-A58E-21290C76A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983F-3DB0-4C04-9C8E-2BB3A7A3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614E-F8F9-43F7-B7F0-6F9C31A3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C5445-FB9C-4920-864D-E1910CDD1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45A66-0E08-49DD-BD5B-7EF785A7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5D81-DDB9-44FE-8177-2E5DD0BE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62277-D0DF-48B9-BBF0-CFD87583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14CE-3473-4A30-900B-973FC6DC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DB7CC-5775-4C07-983D-63D5B3B6A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9AE3E-C247-4708-9004-0AA3584B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F41-9607-408F-8BC2-45231C6DF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66A3-8DA0-4EA5-8C88-3D02BBE9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A0E6-2594-4919-9ABF-C70B40FC4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DDBA3-F9A9-4433-9BE3-52BB13E25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7D92-9939-4BBC-B9AF-90C401DB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2EBF-DB43-41AB-83E4-35A74444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98B6E-5BDB-4304-9EE9-AE80C0487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2FB36-5335-4C14-913C-8C7EB970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F1C30-0BAD-4C5C-B4BE-9E8B09506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9A9D-C159-42FD-98AB-610DF98A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656C7-68E0-45B8-B5FF-E4FF33A1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F93-A09B-4F16-9D57-F218D98E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9C3D1-715D-4ED2-96F9-D435DEFE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29FCC-FEA7-428D-8BBD-9C5EED9B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376DC-A9CB-4543-8768-C866A4EC3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E9557-87DD-4B88-9843-BB7E904E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F83355-EBE7-4949-9216-AC53CE3F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82350-C29C-458F-82F8-12B7DD65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21FE0-6AB1-471A-BAA2-1DFC3723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50FA-9451-4DEA-9DAD-D961E69C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9323F-F3D9-4838-9B35-E55C3864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74610-5A5B-4CE8-952F-B8EFDBB0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4215-96E0-4159-88D7-DFE2F5F5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CBD10-84F4-4C48-8AB1-EA240F4B2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9AB27-E651-467C-B918-46B0937FF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5F53-DDCC-42AA-B46B-9F9BE669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8E338-40BC-4F6A-A68A-007052AE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D21FD-2C03-4D57-A64C-400853EA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A164D-C8F7-4777-A965-2064C311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0AED5-BAE2-404D-94D0-574DD2D9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947D-0864-4447-9C6B-048A060C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222E2-A159-42FF-A1D1-7D45239C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59AF-C3A9-492E-BED3-41E3D5D8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386-23A0-446E-93B1-2B8D70BC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67B-8951-4490-8A8C-812F211BC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AAEF-1E20-436B-A81A-10378F6B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F12-E16F-4857-9A1B-B31F9019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0B8F-9BF7-4C26-98D0-4A7666A58A73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3A5F-DFAF-4657-A8C7-4359A809CF6C}" type="slidenum">
              <a:rPr b="0" lang="de-A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2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6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1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65BE-9417-4815-AE45-6A73766B3248}" type="slidenum">
              <a:rPr b="0" lang="de-A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160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164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89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907A-F6F1-46F4-8B9A-8A21401D5EF0}" type="slidenum">
              <a:rPr b="0" lang="de-A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3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www.jugendliteratur.net/" TargetMode="External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771640" y="5084640"/>
            <a:ext cx="3168720" cy="12826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32000" y="620640"/>
            <a:ext cx="640872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Wolfgang Spitaler </a:t>
            </a:r>
            <a:r>
              <a:rPr b="1" lang="de-AT" sz="2800" spc="-1" strike="noStrike">
                <a:solidFill>
                  <a:srgbClr val="ffffff"/>
                </a:solidFill>
                <a:latin typeface="Tahoma"/>
              </a:rPr>
              <a:t>Sprichwör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5924520" y="1981080"/>
            <a:ext cx="2535120" cy="33195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435640" y="5734080"/>
            <a:ext cx="273672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Christoph Pölt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techn. Betreuu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3"/>
          <a:stretch/>
        </p:blipFill>
        <p:spPr>
          <a:xfrm>
            <a:off x="971640" y="3357720"/>
            <a:ext cx="2511360" cy="29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Literaturauswahl</a:t>
            </a: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Suche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nach zeitgenössischen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AutorInnen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die repräsentativ für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Österreich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sind und gleichzeitig in ihren Werken </a:t>
            </a: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Europa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mit einbeziehen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ffffff"/>
                </a:solidFill>
                <a:latin typeface="Verdana"/>
              </a:rPr>
              <a:t>Aufteilung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der zur Auswahl stehenden Bücher zur Bearbeitung durch die Projekteilnehmerinn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Die Endauswahl fiel auf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Thomas Bernhard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Prei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Marlene Streeruwitz: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Verführung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Anna Mitgutsch</a:t>
            </a: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Zwei Leben und ein Ta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Erich Hackl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schied von Sidoni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>
                <a:solidFill>
                  <a:srgbClr val="ffffff"/>
                </a:solidFill>
                <a:latin typeface="Verdana"/>
              </a:rPr>
              <a:t>Felix Mitterer: 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Die Piefke-Sag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574640" cy="2476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1508040" cy="24652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1979640" y="4076640"/>
            <a:ext cx="1458720" cy="25020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292720" y="4076640"/>
            <a:ext cx="1565280" cy="247356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7020000" y="4076640"/>
            <a:ext cx="177156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8000"/>
                            </p:stCondLst>
                            <p:childTnLst>
                              <p:par>
                                <p:cTn id="2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Literatur,</a:t>
            </a:r>
            <a:br>
              <a:rPr sz="4000"/>
            </a:b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eine Begriffsuche …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95280" y="177336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Überlieferungen in schriftlicher Form, je nach Nation, Religion, meist wissenschaftliche Werke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Erst im 18./19.Jht. wurden ästhetische und funktionale Schriften mit einbezoge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Mit den angestrebten Bildungschancen für alle, gewann Lesen an Bedeutung und gleichzeitig setzten sich Unterscheidungen in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Belles lettere“ = Belletristik und „hohe“ Literatur durch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75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300" spc="-1" strike="noStrike">
                <a:solidFill>
                  <a:srgbClr val="ffffff"/>
                </a:solidFill>
                <a:latin typeface="Verdana"/>
              </a:rPr>
              <a:t>Was im 20./21.Jht.  als literaturwürdig angesehen wird, entscheiden LiteraturkritikerInnen und Preisverleihungen (Nobelpreis, etc.)  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00"/>
                            </p:stCondLst>
                            <p:childTnLst>
                              <p:par>
                                <p:cTn id="2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000"/>
                            </p:stCondLst>
                            <p:childTnLst>
                              <p:par>
                                <p:cTn id="2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6000"/>
                            </p:stCondLst>
                            <p:childTnLst>
                              <p:par>
                                <p:cTn id="2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3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9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3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… </a:t>
            </a: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Lesen,</a:t>
            </a:r>
            <a:br>
              <a:rPr sz="4000"/>
            </a:b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eine Prägung des sozialen Umfeld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41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Wann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beginnt das Interesse an Literatu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Wie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wird man zur Leserin, zum Leser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Wir stellen fest, es geht nicht auf </a:t>
            </a: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Knopfdruck: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wir müssen bei den </a:t>
            </a:r>
            <a:r>
              <a:rPr b="1" lang="de-AT" sz="3200" spc="-1" strike="noStrike">
                <a:solidFill>
                  <a:srgbClr val="ffffff"/>
                </a:solidFill>
                <a:latin typeface="Verdana"/>
              </a:rPr>
              <a:t>Jüngsten</a:t>
            </a: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 anfang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3000"/>
                            </p:stCondLst>
                            <p:childTnLst>
                              <p:par>
                                <p:cTn id="2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0024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Wann und was liest die junge Generation?</a:t>
            </a: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de-AT" sz="4000" spc="-1" strike="noStrike">
                <a:solidFill>
                  <a:srgbClr val="ccecff"/>
                </a:solidFill>
                <a:latin typeface="Arial"/>
              </a:rPr>
              <a:t>Was lesen die Erwachsenen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Diskussion mit SchülerInnen der 6. Klasse eines Wiener Gymnasium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Austeilung von Fragebögen an SchülerInnen an zwei Wiener Gymnasi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Verdana"/>
              </a:rPr>
              <a:t>Fragebogen an das Wiener Tand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ccecff"/>
                </a:solidFill>
                <a:latin typeface="Arial"/>
              </a:rPr>
              <a:t>Methoden der Befragunge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ei der Auswertung der Fragebögen an Schulen wurde zunächst mit quantitativer Methode gezählt und dann qualitative Gemeinsamkeiten herausgefiltert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Bei der Auswertung der Befragung der ProjektteilnehmerInnen, ergab sich ein starkes Interesse am Lesen seit Kindheit und Jugen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ccecff"/>
                </a:solidFill>
                <a:latin typeface="Arial"/>
              </a:rPr>
              <a:t>Vergleich Leseverhalten Jugend und Erwachsen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332000" y="371592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ffff"/>
                </a:solidFill>
                <a:latin typeface="Verdana"/>
              </a:rPr>
              <a:t>Was wird gelesen?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2564640" y="4581360"/>
            <a:ext cx="39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600" spc="-1" strike="noStrike">
                <a:solidFill>
                  <a:srgbClr val="ffffff"/>
                </a:solidFill>
                <a:latin typeface="Verdana"/>
              </a:rPr>
              <a:t>Warum lesen wi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Was wird gelese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benteuer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Com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lassiker in der Schu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rimis / Horr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Fremdsprachige 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Jugendzeitschrif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Zeitun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ScienceFiction / Fantas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(Jugend-) Alltagsgeschich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4720" y="2205000"/>
            <a:ext cx="40384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Abenteuer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Comic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lassiker in der Schule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Krimi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Fremdsprachige Büche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Jugendzeitschrift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Zeitung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Berufslektüre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ffffff"/>
                </a:solidFill>
                <a:latin typeface="Verdana"/>
              </a:rPr>
              <a:t>Biographien / Historisch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900000" y="155736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Jugendl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76720" y="1557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Erwachs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740720" y="2565360"/>
            <a:ext cx="358560" cy="1944720"/>
          </a:xfrm>
          <a:custGeom>
            <a:avLst/>
            <a:gdLst>
              <a:gd name="textAreaLeft" fmla="*/ 0 w 358560"/>
              <a:gd name="textAreaRight" fmla="*/ 129600 w 3585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058240" y="3213000"/>
            <a:ext cx="10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Jugend-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ffffff"/>
                </a:solidFill>
                <a:latin typeface="Tahoma"/>
              </a:rPr>
              <a:t>zei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1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0"/>
                            </p:stCondLst>
                            <p:childTnLst>
                              <p:par>
                                <p:cTn id="40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6000"/>
                            </p:stCondLst>
                            <p:childTnLst>
                              <p:par>
                                <p:cTn id="4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9000"/>
                            </p:stCondLst>
                            <p:childTnLst>
                              <p:par>
                                <p:cTn id="4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2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2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1000"/>
                            </p:stCondLst>
                            <p:childTnLst>
                              <p:par>
                                <p:cTn id="4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9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Warum lesen wir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24000" y="249228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Spaß / Entspann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enteuer im Kopf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Bild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ndere Welten Kennenlern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0" y="2492280"/>
            <a:ext cx="403848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Entspann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„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Abenteuer im Kopf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Wissenserweiteru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Kennenlernen anderer Kulture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1042920" y="14842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Jugendli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9640" y="148428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ffffff"/>
                </a:solidFill>
                <a:uFillTx/>
                <a:latin typeface="Tahoma"/>
              </a:rPr>
              <a:t>Erwachse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463840" y="4595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494172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ffff"/>
                </a:solidFill>
                <a:latin typeface="Verdana"/>
              </a:rPr>
              <a:t>Die Unterschiede sind sowohl beim „WAS“ als auch beim „WARUM“ gering; ein für uns überraschendes Ergebni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1500"/>
                            </p:stCondLst>
                            <p:childTnLst>
                              <p:par>
                                <p:cTn id="4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500"/>
                            </p:stCondLst>
                            <p:childTnLst>
                              <p:par>
                                <p:cTn id="5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3500"/>
                            </p:stCondLst>
                            <p:childTnLst>
                              <p:par>
                                <p:cTn id="5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fill="hold">
                            <p:stCondLst>
                              <p:cond delay="4500"/>
                            </p:stCondLst>
                            <p:childTnLst>
                              <p:par>
                                <p:cTn id="5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10920" y="1197000"/>
            <a:ext cx="237636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V</a:t>
            </a:r>
            <a:br>
              <a:rPr sz="7200"/>
            </a:br>
            <a:br>
              <a:rPr sz="4000"/>
            </a:b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E</a:t>
            </a:r>
            <a:br>
              <a:rPr sz="7200"/>
            </a:br>
            <a:br>
              <a:rPr sz="4000"/>
            </a:br>
            <a:r>
              <a:rPr b="1" lang="de-AT" sz="7200" spc="-1" strike="noStrike">
                <a:solidFill>
                  <a:srgbClr val="e5ffff"/>
                </a:solidFill>
                <a:latin typeface="Tahoma"/>
              </a:rPr>
              <a:t>CU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556000" y="1268280"/>
            <a:ext cx="2952720" cy="6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irtuelles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2332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556000" y="292428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uropäische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27280" y="4581360"/>
            <a:ext cx="403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5400" spc="-1" strike="noStrike">
                <a:solidFill>
                  <a:srgbClr val="ffffff"/>
                </a:solidFill>
                <a:latin typeface="Tahoma"/>
              </a:rPr>
              <a:t>lturzentrum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2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2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20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2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9640" y="23270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Einbringen der Erfahrungen aus dem Biblbiotheken-Allt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Diskurs mit ExpertInnen und unter den ProjektteilnehmerIn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ontaktaufnahme mit Institutionen für Kinder- und Jugendliterat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Vergleich mit der Situation in Deutschland und den Niederland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2050920" y="1557360"/>
            <a:ext cx="4249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 u="sng">
                <a:solidFill>
                  <a:srgbClr val="ccecff"/>
                </a:solidFill>
                <a:uFillTx/>
                <a:latin typeface="Tahoma"/>
              </a:rPr>
              <a:t>Methoden der Recherch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16360" y="9079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Christine, Elisabeth, Ge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2000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24000" y="270828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kann das Buch neben den neuen Medien, wie TV, Internet und PC-Spielen, bestehen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wie wird das Lesen von Institutionen, Eltern und PädagogInnen gefördert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1430280" y="1628640"/>
            <a:ext cx="6387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600" spc="-1" strike="noStrike" u="sng">
                <a:solidFill>
                  <a:srgbClr val="ccecff"/>
                </a:solidFill>
                <a:uFillTx/>
                <a:latin typeface="Tahoma"/>
              </a:rPr>
              <a:t>Uns beschäftigt vorrangig die Frage…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0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Das </a:t>
            </a:r>
            <a:r>
              <a:rPr b="0" lang="de-AT" sz="2800" spc="-1" strike="noStrike" u="sng">
                <a:solidFill>
                  <a:srgbClr val="ffffff"/>
                </a:solidFill>
                <a:uFillTx/>
                <a:latin typeface="Verdana"/>
              </a:rPr>
              <a:t>Buch und Lesen</a:t>
            </a:r>
            <a:r>
              <a:rPr b="0" lang="de-AT" sz="2800" spc="-1" strike="noStrike">
                <a:solidFill>
                  <a:srgbClr val="ffffff"/>
                </a:solidFill>
                <a:latin typeface="Verdana"/>
              </a:rPr>
              <a:t> haben noch ihren festen Platz, ist aber abhängig vo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 u="sng">
                <a:solidFill>
                  <a:srgbClr val="ffffff"/>
                </a:solidFill>
                <a:uFillTx/>
                <a:latin typeface="Verdana"/>
              </a:rPr>
              <a:t>Leseförderungen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; diese werden allgemein als wichtiger </a:t>
            </a:r>
            <a:r>
              <a:rPr b="0" lang="de-AT" sz="2400" spc="-1" strike="noStrike" u="sng">
                <a:solidFill>
                  <a:srgbClr val="ffffff"/>
                </a:solidFill>
                <a:uFillTx/>
                <a:latin typeface="Verdana"/>
              </a:rPr>
              <a:t>Bildungsauftrag</a:t>
            </a: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 angesehen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ffffff"/>
                </a:solidFill>
                <a:latin typeface="Verdana"/>
              </a:rPr>
              <a:t>Lehraufträgen an die (Kindergarten-) PädagogInnen und ist auch den Verlagen ein Anliegen.</a:t>
            </a:r>
            <a:r>
              <a:rPr b="0" lang="de-AT" sz="2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2700360" y="119700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 u="sng">
                <a:solidFill>
                  <a:srgbClr val="ccecff"/>
                </a:solidFill>
                <a:uFillTx/>
                <a:latin typeface="Tahoma"/>
              </a:rPr>
              <a:t>Vorläufiges Ergebni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8360" y="4941720"/>
            <a:ext cx="806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ffffff"/>
                </a:solidFill>
                <a:latin typeface="Verdana"/>
              </a:rPr>
              <a:t>Uneins waren sich die drei Recherchierenden, ob die Leseförderung in der richtigen Form angeboten wird und insgesamt ausreichend ist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3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ccecff"/>
                </a:solidFill>
                <a:latin typeface="Arial"/>
              </a:rPr>
              <a:t>Kinder- und Jugendliterat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3438360" cy="460512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324000" y="6237360"/>
            <a:ext cx="828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Quelle: </a:t>
            </a:r>
            <a:r>
              <a:rPr b="0" lang="de-AT" sz="1800" spc="-1" strike="noStrike" u="sng">
                <a:solidFill>
                  <a:srgbClr val="ffffcc"/>
                </a:solidFill>
                <a:uFillTx/>
                <a:latin typeface="Tahoma"/>
                <a:hlinkClick r:id="rId2"/>
              </a:rPr>
              <a:t>http://www.jugendliteratur.net/</a:t>
            </a:r>
            <a:r>
              <a:rPr b="0" lang="de-AT" sz="1800" spc="-1" strike="noStrike">
                <a:solidFill>
                  <a:srgbClr val="ffffff"/>
                </a:solidFill>
                <a:latin typeface="Tahoma"/>
              </a:rPr>
              <a:t> Plakat zum Dixi Kinderliteraturpre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284720" y="1484280"/>
            <a:ext cx="4248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Der Anteil den wir als Großelterngeneration zur Leseförderung leisten können, beginnt beim Vorlesen und Erzählen von Geschichten im Kleinkindalter.</a:t>
            </a:r>
            <a:r>
              <a:rPr b="0" lang="de-AT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AT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0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340000" y="3933720"/>
            <a:ext cx="3887640" cy="232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1763640" y="2708280"/>
            <a:ext cx="5400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Tahoma"/>
              </a:rPr>
              <a:t>Inhaltliche Bearbeitung: Gerti Zupani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000" spc="-1" strike="noStrike">
                <a:solidFill>
                  <a:srgbClr val="ffffff"/>
                </a:solidFill>
                <a:latin typeface="Tahoma"/>
              </a:rPr>
              <a:t>Technische Bearbeitung: Christoph Pölt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116000" y="907920"/>
            <a:ext cx="68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fffff"/>
                </a:solidFill>
                <a:latin typeface="Tahoma"/>
              </a:rPr>
              <a:t>Tandem Wien,  unsere nächsten Projektschritte folgen 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6000" spc="-1" strike="noStrike">
                <a:solidFill>
                  <a:srgbClr val="e5ffff"/>
                </a:solidFill>
                <a:latin typeface="Tahoma"/>
              </a:rPr>
              <a:t>VECU</a:t>
            </a:r>
            <a:endParaRPr b="0" lang="en-US" sz="6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000" y="3689280"/>
            <a:ext cx="793116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e5ffff"/>
                </a:solidFill>
                <a:latin typeface="Tahoma"/>
              </a:rPr>
              <a:t>Anhand von Beispielen aus der Alltagskultur und der Literatur, sollen die Partnergruppen aus 6 europäischen Ländern, die gemeinsamen  oder unterschiedlichen kulturellen Wertvorstellungen herausfinden.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826920" y="2133720"/>
            <a:ext cx="72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ist ein lernpartnerschaftliches Projekt der EFOS, gefördert durch Grundvigt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0920" y="907560"/>
            <a:ext cx="766764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5ffff"/>
                </a:solidFill>
                <a:latin typeface="Tahoma"/>
              </a:rPr>
              <a:t>Erwünschte Ergebnisse des Projektes: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755640" y="2276640"/>
            <a:ext cx="7488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Können kulturelle Wertvorstellungen, die uns wichtig sind, an die nächste Generation vermittelt werden?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195640" y="443700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Wenn JA -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in welcher For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000" spc="-1" strike="noStrike">
                <a:solidFill>
                  <a:srgbClr val="e5ffff"/>
                </a:solidFill>
                <a:latin typeface="Tahoma"/>
              </a:rPr>
              <a:t>Einteilung der Tandems (Gruppen) nach Them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Groningen, Magdeburg, Wien: Literatu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Brno, Dresden, Kiel: Wohnkultur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Sitten und Bräuch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de-AT" sz="3200" spc="-1" strike="noStrike">
                <a:solidFill>
                  <a:srgbClr val="e5ffff"/>
                </a:solidFill>
                <a:latin typeface="Tahoma"/>
              </a:rPr>
              <a:t>Bratislava, Wroclaw, Wien: Sprichwörter, Esskultur, Musi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30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4475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e5ffff"/>
                </a:solidFill>
                <a:latin typeface="Tahoma"/>
              </a:rPr>
              <a:t>Projektkoordinatio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889440" cy="360828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11280" y="5661000"/>
            <a:ext cx="34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000" spc="-1" strike="noStrike">
                <a:solidFill>
                  <a:srgbClr val="ffffff"/>
                </a:solidFill>
                <a:latin typeface="Tahoma"/>
              </a:rPr>
              <a:t>Herta Spital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84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796000" y="5805000"/>
            <a:ext cx="24480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Elfi Marek</a:t>
            </a:r>
            <a:r>
              <a:rPr b="0" lang="de-AT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826920" y="2565360"/>
            <a:ext cx="2659320" cy="334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84760" y="1628640"/>
            <a:ext cx="372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ahoma"/>
              </a:rPr>
              <a:t>Elisabeth Marek</a:t>
            </a:r>
            <a:r>
              <a:rPr b="0" lang="de-AT" sz="3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5580000" y="2060640"/>
            <a:ext cx="2611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219640" y="2133720"/>
            <a:ext cx="3168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Tahoma"/>
              </a:rPr>
              <a:t>Christiane Dantine</a:t>
            </a: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219640" y="2852640"/>
            <a:ext cx="3208320" cy="33847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755640" y="5589720"/>
            <a:ext cx="23144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ahoma"/>
              </a:rPr>
              <a:t>Helga Fal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e5ffff"/>
                </a:solidFill>
                <a:latin typeface="Tahoma"/>
              </a:rPr>
              <a:t>Tandem Wie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716360" y="184464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403280" y="3645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ffff"/>
                </a:solidFill>
                <a:latin typeface="Tahoma"/>
              </a:rPr>
              <a:t>Gerti Zupan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rti</cp:lastModifiedBy>
  <dcterms:modified xsi:type="dcterms:W3CDTF">2009-10-05T09:28:46Z</dcterms:modified>
  <cp:revision>19</cp:revision>
  <dc:subject/>
  <dc:title>PowerPoint Presentation</dc:title>
</cp:coreProperties>
</file>