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7BC-3086-490A-8133-4C6166A6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BE2-2994-49B4-949B-D19BD346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51F-B528-4755-A964-8BAC50E1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E75-F25E-42DC-91CA-73A216AD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F56B-6547-4BD4-A105-B7C0398E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C8EC-3631-4078-A4EC-B05D244C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67EB-E314-42EA-89B6-1C5554B1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8B8E-FE74-48B9-ABB3-D51F5549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539B-206E-4ED7-990E-2C4ADE5D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5695-75F5-4157-88AA-60808EBB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B8B7-375E-49D4-90B3-85C0B278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C58-E06E-4649-A0E0-A387679E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BA03-02D9-4CA9-B2B4-C9752EA2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5D98-B290-4F94-9922-01AC7FD7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B148-EA3F-4424-9961-23E61F55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D815-CDDC-4A22-A2FF-3A168C1B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3E8E-F4E5-4380-A335-83CD715B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5C7E5-A7E9-413B-AF23-5818E0EA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EB0F9-FDCC-4C83-B731-B7A467D7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3F20-5476-44D8-969E-A325E6B5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17F7E-7091-4B7F-9930-D83ADC21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9FAA2-6249-4E3F-878E-EA61C650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AE3-D94C-47A9-98D3-10683586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D34E-9CBC-4B03-934A-5EEA9199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67C43-8D78-4C12-AE71-7630A0FE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6E769-E4FF-46EC-9C95-21579B19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0622D-7417-40D5-8025-303050C3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C344-DD3B-448E-857B-6D4E1868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ACBE-FCF6-4B83-BAEB-A1ED8AE8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8AF1-60E3-4AE6-B6D6-C46FF80A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F565E-95D0-4256-9A9D-44B63C3F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A5DA3-2F8D-455D-B23B-A3FA63C3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444E9-13A5-467A-95D4-E5158B03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CAD-858C-4FDD-8CBF-73FACBCE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2504E-ADEA-495A-911D-2E56BE56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DA152-C01E-4566-BFA0-106F755A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272AF-7FF9-4240-AF40-42AAF4E2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91795-3795-4DD4-92E6-995D1285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F0988-4C03-4756-8D7A-64F0EFAE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4B0CC-869E-4849-816F-446139B9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8AD39-099D-4E94-AF6C-A6814867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9ED05-62AB-4BBC-95A1-B7B08FD5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3C1A2-695E-4DB8-8D1A-E6C91DEB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060-9B17-4B5A-B65C-227C29A2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B6A-0027-4D69-AB9E-262B5A66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7EF-0C88-4847-A3FB-120F4F4F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3DE-3599-4558-9A60-FA755D5B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FF6-F8D5-4A56-8CE9-FF2751A2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1A68-B8EB-4019-8CE7-53D9B3261AE5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C0F8-5675-4EAB-8979-1EF5AAF5B194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C045-CE8C-47A9-BA6C-10E9EECD9D95}" type="slidenum">
              <a:rPr b="0" lang="de-AT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6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6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7F84-22B8-43D0-8F1C-8512C4861DEF}" type="slidenum">
              <a:rPr b="0" lang="de-AT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jugendliteratur.net/" TargetMode="External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771640" y="5084640"/>
            <a:ext cx="3168720" cy="12826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640872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e5ffff"/>
                </a:solidFill>
                <a:latin typeface="Tahoma"/>
              </a:rPr>
              <a:t>Tandem Wi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Tahoma"/>
              </a:rPr>
              <a:t>Wolfgang Spitaler </a:t>
            </a:r>
            <a:r>
              <a:rPr b="1" lang="de-AT" sz="2800" spc="-1" strike="noStrike">
                <a:solidFill>
                  <a:srgbClr val="ffffff"/>
                </a:solidFill>
                <a:latin typeface="Tahoma"/>
              </a:rPr>
              <a:t>Sprichwör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924520" y="1981080"/>
            <a:ext cx="2535120" cy="33195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435640" y="5734080"/>
            <a:ext cx="2736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Tahoma"/>
              </a:rPr>
              <a:t>Christoph Pölt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Tahoma"/>
              </a:rPr>
              <a:t>techn. Betreu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971640" y="3357720"/>
            <a:ext cx="25113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ccecff"/>
                </a:solidFill>
                <a:latin typeface="Arial"/>
              </a:rPr>
              <a:t>Literaturauswahl</a:t>
            </a:r>
            <a:r>
              <a:rPr b="0" lang="de-AT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Verdana"/>
              </a:rPr>
              <a:t>Suche</a:t>
            </a: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 nach zeitgenössischen </a:t>
            </a:r>
            <a:r>
              <a:rPr b="1" lang="de-AT" sz="2800" spc="-1" strike="noStrike">
                <a:solidFill>
                  <a:srgbClr val="ffffff"/>
                </a:solidFill>
                <a:latin typeface="Verdana"/>
              </a:rPr>
              <a:t>AutorInnen</a:t>
            </a: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 die repräsentativ für </a:t>
            </a:r>
            <a:r>
              <a:rPr b="1" lang="de-AT" sz="2800" spc="-1" strike="noStrike">
                <a:solidFill>
                  <a:srgbClr val="ffffff"/>
                </a:solidFill>
                <a:latin typeface="Verdana"/>
              </a:rPr>
              <a:t>Österreich</a:t>
            </a: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 sind und gleichzeitig in ihren Werken </a:t>
            </a:r>
            <a:r>
              <a:rPr b="1" lang="de-AT" sz="2800" spc="-1" strike="noStrike">
                <a:solidFill>
                  <a:srgbClr val="ffffff"/>
                </a:solidFill>
                <a:latin typeface="Verdana"/>
              </a:rPr>
              <a:t>Europa</a:t>
            </a: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 mit einbeziehe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Verdana"/>
              </a:rPr>
              <a:t>Aufteilung</a:t>
            </a: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 der zur Auswahl stehenden Bücher zur Bearbeitung durch die Projekteilnehmerinn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ccecff"/>
                </a:solidFill>
                <a:latin typeface="Arial"/>
              </a:rPr>
              <a:t>Die Endauswahl fiel auf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ffffff"/>
                </a:solidFill>
                <a:latin typeface="Verdana"/>
              </a:rPr>
              <a:t>Thomas Bernhard</a:t>
            </a:r>
            <a:r>
              <a:rPr b="0" lang="de-AT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Pre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ffffff"/>
                </a:solidFill>
                <a:latin typeface="Verdana"/>
              </a:rPr>
              <a:t>Marlene Streeruwitz:</a:t>
            </a:r>
            <a:r>
              <a:rPr b="0" lang="de-A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Verführung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ffffff"/>
                </a:solidFill>
                <a:latin typeface="Verdana"/>
              </a:rPr>
              <a:t>Anna Mitgutsch</a:t>
            </a:r>
            <a:r>
              <a:rPr b="0" lang="de-AT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Zwei Leben und ein Ta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ffffff"/>
                </a:solidFill>
                <a:latin typeface="Verdana"/>
              </a:rPr>
              <a:t>Erich Hackl: 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Abschied von Sidoni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ffffff"/>
                </a:solidFill>
                <a:latin typeface="Verdana"/>
              </a:rPr>
              <a:t>Felix Mitterer: 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Die Piefke-Sag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574640" cy="2476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1508040" cy="2465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1979640" y="4076640"/>
            <a:ext cx="1458720" cy="2502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5292720" y="4076640"/>
            <a:ext cx="1565280" cy="24735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7020000" y="4076640"/>
            <a:ext cx="1771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ccecff"/>
                </a:solidFill>
                <a:latin typeface="Arial"/>
              </a:rPr>
              <a:t>Literatur,</a:t>
            </a:r>
            <a:br>
              <a:rPr sz="4000"/>
            </a:br>
            <a:r>
              <a:rPr b="1" lang="de-AT" sz="4000" spc="-1" strike="noStrike">
                <a:solidFill>
                  <a:srgbClr val="ccecff"/>
                </a:solidFill>
                <a:latin typeface="Arial"/>
              </a:rPr>
              <a:t>eine Begriffsuche 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ffffff"/>
                </a:solidFill>
                <a:latin typeface="Verdana"/>
              </a:rPr>
              <a:t>Überlieferungen in schriftlicher Form, je nach Nation, Religion, meist wissenschaftliche Werke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ffffff"/>
                </a:solidFill>
                <a:latin typeface="Verdana"/>
              </a:rPr>
              <a:t>Erst im 18./19.Jht. wurden ästhetische und funktionale Schriften mit einbezogen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ffffff"/>
                </a:solidFill>
                <a:latin typeface="Verdana"/>
              </a:rPr>
              <a:t>Mit den angestrebten Bildungschancen für alle, gewann Lesen an Bedeutung und gleichzeitig setzten sich Unterscheidungen in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de-AT" sz="2300" spc="-1" strike="noStrike">
                <a:solidFill>
                  <a:srgbClr val="ffffff"/>
                </a:solidFill>
                <a:latin typeface="Verdana"/>
              </a:rPr>
              <a:t>Belles lettere“ = Belletristik und „hohe“ Literatur durch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ffffff"/>
                </a:solidFill>
                <a:latin typeface="Verdana"/>
              </a:rPr>
              <a:t>Was im 20./21.Jht.  als literaturwürdig angesehen wird, entscheiden LiteraturkritikerInnen und Preisverleihungen (Nobelpreis, etc.) 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3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ccecff"/>
                </a:solidFill>
                <a:latin typeface="Arial"/>
              </a:rPr>
              <a:t>… </a:t>
            </a:r>
            <a:r>
              <a:rPr b="1" lang="de-AT" sz="4000" spc="-1" strike="noStrike">
                <a:solidFill>
                  <a:srgbClr val="ccecff"/>
                </a:solidFill>
                <a:latin typeface="Arial"/>
              </a:rPr>
              <a:t>Lesen,</a:t>
            </a:r>
            <a:br>
              <a:rPr sz="4000"/>
            </a:br>
            <a:r>
              <a:rPr b="1" lang="de-AT" sz="4000" spc="-1" strike="noStrike">
                <a:solidFill>
                  <a:srgbClr val="ccecff"/>
                </a:solidFill>
                <a:latin typeface="Arial"/>
              </a:rPr>
              <a:t>eine Prägung des sozialen Umfeld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Verdana"/>
              </a:rPr>
              <a:t>Wann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 beginnt das Interesse an Literatu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Verdana"/>
              </a:rPr>
              <a:t>Wie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 wird man zur Leserin, zum Lese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Wir stellen fest, es geht nicht auf </a:t>
            </a:r>
            <a:r>
              <a:rPr b="1" lang="de-AT" sz="3200" spc="-1" strike="noStrike">
                <a:solidFill>
                  <a:srgbClr val="ffffff"/>
                </a:solidFill>
                <a:latin typeface="Verdana"/>
              </a:rPr>
              <a:t>Knopfdruck: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 wir müssen bei den </a:t>
            </a:r>
            <a:r>
              <a:rPr b="1" lang="de-AT" sz="3200" spc="-1" strike="noStrike">
                <a:solidFill>
                  <a:srgbClr val="ffffff"/>
                </a:solidFill>
                <a:latin typeface="Verdana"/>
              </a:rPr>
              <a:t>Jüngsten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 anfang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24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ccecff"/>
                </a:solidFill>
                <a:latin typeface="Arial"/>
              </a:rPr>
              <a:t>Wann und was liest die junge Generation?</a:t>
            </a:r>
            <a:r>
              <a:rPr b="0" lang="de-AT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de-AT" sz="4000" spc="-1" strike="noStrike">
                <a:solidFill>
                  <a:srgbClr val="ccecff"/>
                </a:solidFill>
                <a:latin typeface="Arial"/>
              </a:rPr>
              <a:t>Was lesen die Erwachsene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Diskussion mit SchülerInnen der 6. Klasse eines Wiener Gymnasium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Austeilung von Fragebögen an SchülerInnen an zwei Wiener Gymnasi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Fragebogen an das Wiener Tand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ccecff"/>
                </a:solidFill>
                <a:latin typeface="Arial"/>
              </a:rPr>
              <a:t>Methoden der Befragung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Bei der Auswertung der Fragebögen an Schulen wurde zunächst mit quantitativer Methode gezählt und dann qualitative Gemeinsamkeiten herausgefilter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Bei der Auswertung der Befragung der ProjektteilnehmerInnen, ergab sich ein starkes Interesse am Lesen seit Kindheit und Jugen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400" spc="-1" strike="noStrike">
                <a:solidFill>
                  <a:srgbClr val="ccecff"/>
                </a:solidFill>
                <a:latin typeface="Arial"/>
              </a:rPr>
              <a:t>Vergleich Leseverhalten Jugend und Erwachse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32000" y="371592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ffffff"/>
                </a:solidFill>
                <a:latin typeface="Verdana"/>
              </a:rPr>
              <a:t>Was wird gelesen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2564640" y="4581360"/>
            <a:ext cx="39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ffffff"/>
                </a:solidFill>
                <a:latin typeface="Verdana"/>
              </a:rPr>
              <a:t>Warum lesen wi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ccecff"/>
                </a:solidFill>
                <a:latin typeface="Arial"/>
              </a:rPr>
              <a:t>Was wird geles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40384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Abenteuerbüc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Com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Klassiker in der Schu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Krimis / Horr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Fremdsprachige Büc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Jugendzeitschrift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Zeitung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ScienceFiction / Fantas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(Jugend-) Alltagsgeschicht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4720" y="2205000"/>
            <a:ext cx="40384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Abenteuerbüc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Com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Klassiker in der Schul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Krim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Fremdsprachige Büc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Jugendzeitschrift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Zeitung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Berufslektür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Biographien / Historisch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900000" y="1557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 u="sng">
                <a:solidFill>
                  <a:srgbClr val="ffffff"/>
                </a:solidFill>
                <a:uFillTx/>
                <a:latin typeface="Tahoma"/>
              </a:rPr>
              <a:t>Jugendli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1557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 u="sng">
                <a:solidFill>
                  <a:srgbClr val="ffffff"/>
                </a:solidFill>
                <a:uFillTx/>
                <a:latin typeface="Tahoma"/>
              </a:rPr>
              <a:t>Erwachs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40720" y="2565360"/>
            <a:ext cx="358560" cy="1944720"/>
          </a:xfrm>
          <a:custGeom>
            <a:avLst/>
            <a:gdLst>
              <a:gd name="textAreaLeft" fmla="*/ 0 w 358560"/>
              <a:gd name="textAreaRight" fmla="*/ 129600 w 3585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58240" y="3213000"/>
            <a:ext cx="10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Tahoma"/>
              </a:rPr>
              <a:t>Jugend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Tahoma"/>
              </a:rPr>
              <a:t>ze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00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7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900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ccecff"/>
                </a:solidFill>
                <a:latin typeface="Arial"/>
              </a:rPr>
              <a:t>Warum lesen wi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038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Spaß / Entspannu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Abenteuer im Kopf“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Bildu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Andere Welten Kennenlern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0" y="2492280"/>
            <a:ext cx="4038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Entspannu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Abenteuer im Kopf“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Wissenserweiteru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Kennenlernen anderer Kultur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1042920" y="1484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 u="sng">
                <a:solidFill>
                  <a:srgbClr val="ffffff"/>
                </a:solidFill>
                <a:uFillTx/>
                <a:latin typeface="Tahoma"/>
              </a:rPr>
              <a:t>Jugendli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19640" y="1484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 u="sng">
                <a:solidFill>
                  <a:srgbClr val="ffffff"/>
                </a:solidFill>
                <a:uFillTx/>
                <a:latin typeface="Tahoma"/>
              </a:rPr>
              <a:t>Erwachs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63840" y="4595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4941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Die Unterschiede sind sowohl beim „WAS“ als auch beim „WARUM“ gering; ein für uns überraschendes Ergebni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5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500"/>
                            </p:stCondLst>
                            <p:childTnLst>
                              <p:par>
                                <p:cTn id="5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2376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e5ffff"/>
                </a:solidFill>
                <a:latin typeface="Tahoma"/>
              </a:rPr>
              <a:t>V</a:t>
            </a:r>
            <a:br>
              <a:rPr sz="7200"/>
            </a:br>
            <a:br>
              <a:rPr sz="4000"/>
            </a:br>
            <a:r>
              <a:rPr b="1" lang="de-AT" sz="7200" spc="-1" strike="noStrike">
                <a:solidFill>
                  <a:srgbClr val="e5ffff"/>
                </a:solidFill>
                <a:latin typeface="Tahoma"/>
              </a:rPr>
              <a:t>E</a:t>
            </a:r>
            <a:br>
              <a:rPr sz="7200"/>
            </a:br>
            <a:br>
              <a:rPr sz="4000"/>
            </a:br>
            <a:r>
              <a:rPr b="1" lang="de-AT" sz="7200" spc="-1" strike="noStrike">
                <a:solidFill>
                  <a:srgbClr val="e5ffff"/>
                </a:solidFill>
                <a:latin typeface="Tahoma"/>
              </a:rPr>
              <a:t>CU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56000" y="1268280"/>
            <a:ext cx="2952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400" spc="-1" strike="noStrike">
                <a:solidFill>
                  <a:srgbClr val="ffffff"/>
                </a:solidFill>
                <a:latin typeface="Tahoma"/>
              </a:rPr>
              <a:t>irtuell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292428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400" spc="-1" strike="noStrike">
                <a:solidFill>
                  <a:srgbClr val="ffffff"/>
                </a:solidFill>
                <a:latin typeface="Tahoma"/>
              </a:rPr>
              <a:t>uropäisch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27280" y="458136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400" spc="-1" strike="noStrike">
                <a:solidFill>
                  <a:srgbClr val="ffffff"/>
                </a:solidFill>
                <a:latin typeface="Tahoma"/>
              </a:rPr>
              <a:t>lturzentru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2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2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2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2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2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2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2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2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2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2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ccecff"/>
                </a:solidFill>
                <a:latin typeface="Arial"/>
              </a:rPr>
              <a:t>Kinder- und Jugendliteratu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Einbringen der Erfahrungen aus dem Biblbiotheken-Allta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Diskurs mit ExpertInnen und unter den ProjektteilnehmerIn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Kontaktaufnahme mit Institutionen für Kinder- und Jugendliterat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Vergleich mit der Situation in Deutschland und den Niederland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2050920" y="1557360"/>
            <a:ext cx="424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 u="sng">
                <a:solidFill>
                  <a:srgbClr val="ccecff"/>
                </a:solidFill>
                <a:uFillTx/>
                <a:latin typeface="Tahoma"/>
              </a:rPr>
              <a:t>Methoden der Recherch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16360" y="907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Tahoma"/>
              </a:rPr>
              <a:t>Christine, Elisabeth, Ger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ccecff"/>
                </a:solidFill>
                <a:latin typeface="Arial"/>
              </a:rPr>
              <a:t>Kinder- und Jugendliteratu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kann das Buch neben den neuen Medien, wie TV, Internet und PC-Spielen, bestehe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wie wird das Lesen von Institutionen, Eltern und PädagogInnen geförder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1430280" y="1628640"/>
            <a:ext cx="638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 u="sng">
                <a:solidFill>
                  <a:srgbClr val="ccecff"/>
                </a:solidFill>
                <a:uFillTx/>
                <a:latin typeface="Tahoma"/>
              </a:rPr>
              <a:t>Uns beschäftigt vorrangig die Frage…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ccecff"/>
                </a:solidFill>
                <a:latin typeface="Arial"/>
              </a:rPr>
              <a:t>Kinder- und Jugendliteratu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Das </a:t>
            </a:r>
            <a:r>
              <a:rPr b="0" lang="de-AT" sz="2800" spc="-1" strike="noStrike" u="sng">
                <a:solidFill>
                  <a:srgbClr val="ffffff"/>
                </a:solidFill>
                <a:uFillTx/>
                <a:latin typeface="Verdana"/>
              </a:rPr>
              <a:t>Buch und Lesen</a:t>
            </a: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 haben noch ihren festen Platz, ist aber abhängig v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 u="sng">
                <a:solidFill>
                  <a:srgbClr val="ffffff"/>
                </a:solidFill>
                <a:uFillTx/>
                <a:latin typeface="Verdana"/>
              </a:rPr>
              <a:t>Leseförderungen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; diese werden allgemein als wichtiger </a:t>
            </a:r>
            <a:r>
              <a:rPr b="0" lang="de-AT" sz="2400" spc="-1" strike="noStrike" u="sng">
                <a:solidFill>
                  <a:srgbClr val="ffffff"/>
                </a:solidFill>
                <a:uFillTx/>
                <a:latin typeface="Verdana"/>
              </a:rPr>
              <a:t>Bildungsauftrag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 angeseh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Lehraufträgen an die (Kindergarten-) PädagogInnen und ist auch den Verlagen ein Anliegen.</a:t>
            </a:r>
            <a:r>
              <a:rPr b="0" lang="de-AT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2700360" y="1197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 u="sng">
                <a:solidFill>
                  <a:srgbClr val="ccecff"/>
                </a:solidFill>
                <a:uFillTx/>
                <a:latin typeface="Tahoma"/>
              </a:rPr>
              <a:t>Vorläufiges Ergebn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8360" y="4941720"/>
            <a:ext cx="8064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Verdana"/>
              </a:rPr>
              <a:t>Uneins waren sich die drei Recherchierenden, ob die Leseförderung in der richtigen Form angeboten wird und insgesamt ausreichend is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ccecff"/>
                </a:solidFill>
                <a:latin typeface="Arial"/>
              </a:rPr>
              <a:t>Kinder- und Jugendliteratu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438360" cy="46051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24000" y="6237360"/>
            <a:ext cx="828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Tahoma"/>
              </a:rPr>
              <a:t>Quelle: </a:t>
            </a:r>
            <a:r>
              <a:rPr b="0" lang="de-AT" sz="1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www.jugendliteratur.net/</a:t>
            </a:r>
            <a:r>
              <a:rPr b="0" lang="de-AT" sz="1800" spc="-1" strike="noStrike">
                <a:solidFill>
                  <a:srgbClr val="ffffff"/>
                </a:solidFill>
                <a:latin typeface="Tahoma"/>
              </a:rPr>
              <a:t> Plakat zum Dixi Kinderliteraturpre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84720" y="1484280"/>
            <a:ext cx="424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Tahoma"/>
              </a:rPr>
              <a:t>Der Anteil den wir als Großelterngeneration zur Leseförderung leisten können, beginnt beim Vorlesen und Erzählen von Geschichten im Kleinkindalter.</a:t>
            </a:r>
            <a:r>
              <a:rPr b="0" lang="de-A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340000" y="3933720"/>
            <a:ext cx="3887640" cy="2320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63640" y="2708280"/>
            <a:ext cx="540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ff"/>
                </a:solidFill>
                <a:latin typeface="Tahoma"/>
              </a:rPr>
              <a:t>Inhaltliche Bearbeitung: Gerti Zupan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ff"/>
                </a:solidFill>
                <a:latin typeface="Tahoma"/>
              </a:rPr>
              <a:t>Technische Bearbeitung: Christoph Pölt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16000" y="90792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Tahoma"/>
              </a:rPr>
              <a:t>Tandem Wien,  unsere nächsten Projektschritte folgen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6000" spc="-1" strike="noStrike">
                <a:solidFill>
                  <a:srgbClr val="e5ffff"/>
                </a:solidFill>
                <a:latin typeface="Tahoma"/>
              </a:rPr>
              <a:t>VECU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000" y="3689280"/>
            <a:ext cx="79311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e5ffff"/>
                </a:solidFill>
                <a:latin typeface="Tahoma"/>
              </a:rPr>
              <a:t>Anhand von Beispielen aus der Alltagskultur und der Literatur, sollen die Partnergruppen aus 6 europäischen Ländern, die gemeinsamen  oder unterschiedlichen kulturellen Wertvorstellungen herausfinden.</a:t>
            </a: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" y="2133720"/>
            <a:ext cx="727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…</a:t>
            </a: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ist ein lernpartnerschaftliches Projekt der EFOS, gefördert durch Grundvig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667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e5ffff"/>
                </a:solidFill>
                <a:latin typeface="Tahoma"/>
              </a:rPr>
              <a:t>Erwünschte Ergebnisse des Projektes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755640" y="227664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Können kulturelle Wertvorstellungen, die uns wichtig sind, an die nächste Generation vermittelt werden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95640" y="443700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Wenn JA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in welcher For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e5ffff"/>
                </a:solidFill>
                <a:latin typeface="Tahoma"/>
              </a:rPr>
              <a:t>Einteilung der Tandems (Gruppen) nach Them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Groningen, Magdeburg, Wien: Literat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Brno, Dresden, Kiel: Wohnkultur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Sitten und Bräuc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Bratislava, Wroclaw, Wien: Sprichwörter, Esskultur, Mus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e5ffff"/>
                </a:solidFill>
                <a:latin typeface="Tahoma"/>
              </a:rPr>
              <a:t>Tandem Wi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475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e5ffff"/>
                </a:solidFill>
                <a:latin typeface="Tahoma"/>
              </a:rPr>
              <a:t>Projektkoordina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427640" y="2637000"/>
            <a:ext cx="3889440" cy="3608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11280" y="566100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ff"/>
                </a:solidFill>
                <a:latin typeface="Tahoma"/>
              </a:rPr>
              <a:t>Herta Spital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4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e5ffff"/>
                </a:solidFill>
                <a:latin typeface="Tahoma"/>
              </a:rPr>
              <a:t>Tandem Wi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96000" y="5805000"/>
            <a:ext cx="2448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ahoma"/>
              </a:rPr>
              <a:t>Elfi Marek</a:t>
            </a:r>
            <a:r>
              <a:rPr b="0" lang="de-AT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826920" y="2565360"/>
            <a:ext cx="2659320" cy="334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84760" y="1628640"/>
            <a:ext cx="37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ahoma"/>
              </a:rPr>
              <a:t>Elisabeth Marek</a:t>
            </a:r>
            <a:r>
              <a:rPr b="0" lang="de-AT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580000" y="2060640"/>
            <a:ext cx="2611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e5ffff"/>
                </a:solidFill>
                <a:latin typeface="Tahoma"/>
              </a:rPr>
              <a:t>Tandem Wi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219640" y="2133720"/>
            <a:ext cx="3168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ristiane Dantine</a:t>
            </a:r>
            <a:r>
              <a:rPr b="0" lang="de-A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219640" y="2852640"/>
            <a:ext cx="3208320" cy="33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755640" y="5589720"/>
            <a:ext cx="2314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lga Fal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e5ffff"/>
                </a:solidFill>
                <a:latin typeface="Tahoma"/>
              </a:rPr>
              <a:t>Tandem Wi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403280" y="3645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Tahoma"/>
              </a:rPr>
              <a:t>Gerti Zupan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rti</cp:lastModifiedBy>
  <dcterms:modified xsi:type="dcterms:W3CDTF">2009-10-05T09:28:46Z</dcterms:modified>
  <cp:revision>19</cp:revision>
  <dc:subject/>
  <dc:title>PowerPoint Presentation</dc:title>
</cp:coreProperties>
</file>